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70DA-36BB-4FB2-99BA-AAF6FCBAB0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D06F-22BE-4D91-B66A-AEFE2E770095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54372F-06C0-40D5-B104-87CCE2F7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2CCB6C-49B6-4AE0-8191-3E590A33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2100F5-F67A-401D-9205-C885F252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455A34-8352-4DD3-AD3C-D4CE527C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0A0D87-A4EE-492C-ACEA-30F1CE57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FCA1A9-D7AB-40EA-95A1-9438F2B9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57F272-E4A1-4D1B-9DAE-9A092A7D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36610A-DAB6-4769-98BE-32DA4AAD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C078EE-430D-450A-910C-6D83EE81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04CFDF-9A48-4EA3-B7CC-04CDF550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83750E-8AD7-427F-A093-78135AA1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811FBF-5424-4E04-A191-F13BFDE9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CC915-4E08-4FE8-9F4D-1FA99138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6D6CA5-3AFC-481B-9BE4-D9B7B78A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A80DF5-0B42-446C-943A-1D060D53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F866E8-4BE4-4BD0-815F-CC104205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818514-1E8D-4914-94ED-268DF33C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339F7D-34D4-4424-B443-ADBFAAF1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D2B264-62A9-4976-82F9-BD2E342D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848E2A-71E9-4B06-9AC1-AA8BF1BD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0EB9E-E571-41A4-9A33-EECC469F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27644F-CEF0-4029-AC3D-92358F90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E27CCE-1206-4896-9E4A-E762502F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945C56-EC8F-4131-AE4D-413B407C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28D186-911D-4110-9C2C-49CEF389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942302-17E0-4B72-8B98-BCDD9A22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B8CDDF-0A85-49A9-9A8A-41B975F7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C518B0-3C78-499D-8628-339D29F6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E7D322-C93E-40ED-AB0A-5C0E6FB3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686383-0179-4056-9B83-33AB47C3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E4BC6-8B6F-4200-9CD8-2DB230C8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39F002-0EC9-4E0B-87AE-7EF34AA8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9ADA13-7622-4C96-A014-0489EA37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D74E08-1C05-41CE-AB78-CB4D9BDB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62917E-7FC6-48AE-A49B-40BA075E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4894A3-F124-44E2-8CA8-16BCC5AF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AC8A75-7C91-4937-8B14-19068FA1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BA44EB-6ED4-4128-8EBB-C92F20F6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3B5B842-72FC-477E-A217-20878E38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1BD51B-9E20-4EA2-B59A-A500F032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2589B5-4FA4-40F4-95AD-780437EA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8F154-5749-4488-84E0-34E1D393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7886A5-8EA5-4352-A3A1-5051B42A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73F24E-835D-4161-82F3-1B599A4E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0B5C38-E47A-4B1A-853D-C11A96F5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9E21AC-CFAA-4252-8E0C-43083DECA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CEB0EA5-6F1A-4697-B748-C74ECC43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C598F-C43A-49DF-BB08-C6C45657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7F5FF-D40D-41F3-AEEB-4B7B7750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72075-C419-4212-B3B2-7571BBCF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6DE5F-ED0F-4208-B56B-BE344BCF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7591D-7021-4C9C-87C5-8A4F9DC5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1BA38-F518-4DC8-9B0E-9FD13E84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B3DDC-79D9-4701-90B0-C13D1C46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816BC-F583-4BE8-ADC5-8A64C7FE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B2B3D-9880-4C65-9D96-5E9C4CF4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A53BC-7E11-41AC-B7A9-184F7A26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9BA2C-7AA2-4475-87CA-B700A8DF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5F8D0A-9B22-4495-8F31-678BD95A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4E5DC-5EDA-422A-8EE7-CD5DA4E2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C16C0-B371-41BE-9460-8AEAC0C1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70D6B-B948-4A13-805B-08095750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7ABB4-4167-49F1-B233-7C74C8FD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615AF-D89B-4468-B3A3-39ABBB48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6FC4C9-C914-41F5-94F9-F7BDC4D8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21A87-C45A-4C7B-A548-8290D4DD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A6D29-191D-4908-8A29-B2973305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223AA-729B-4B86-9386-AE18BC37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B194C-96D4-403A-BAB2-D68FEFFC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D02B83-858D-49ED-8B5C-3DBB4E71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9A4903-4A71-4208-942B-3BA24191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B6FA92-1818-460D-9E02-A6D1EE38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9E19AA-1DE5-4800-8F8F-6E216CD3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9B13B5-C1C5-4674-97E9-3E578246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0B57E3-4F07-40E3-B19B-D3AE76B2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02A95F-8570-48D4-9559-00383CEB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6D3F82-A980-4D92-AF4C-06BDF9AB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08B8A3-11B2-4F07-9706-3A10724E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56C337-D89F-4672-A177-0153A960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914090-F5F1-4C26-8856-9E3FFC58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2AF552-C840-4046-83EB-CD4935B1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382E5C-5DB0-4BB0-AB9C-A23A345D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27B32E-C0F5-48BF-AB92-E9506F5B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0EF4C0-7512-455A-91E9-0A936F88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40DD35-D40E-4CC0-B020-7291C3A5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819453-FFDB-4DDD-80B7-638A347B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6BB38F-9E15-4836-B983-CCE01BA2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7AAE7D-36CC-42F0-BB19-A9B50764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15F5DD-2513-4640-868E-A574D91A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2D24C0-25BB-4CD2-9EF5-E8CA17B3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A569F8-F5F2-4BDA-9790-AC313CFB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3EEE46-8B83-4248-B7CC-3E5847DF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D5E166-D07F-40F0-BD40-9067101A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073956-89C7-4682-BC9E-ADC80CA5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8373EC-3163-4A6E-A11D-1B32C569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A9943A-2825-4A76-8CAB-70BCC2B3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11F7C9-98AB-438B-BA8B-B380D6C9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00FAFA-0612-4C06-AF77-A88E7AB6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9B16D9-7C5F-4BB1-9BFF-C50F304B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5C1D62-7B40-49FD-80B9-3FAC0E46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FB1A9D-4D54-48EE-96B9-00193711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C68CC9-69EE-43B3-9610-2599C7E1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17CB9B-9A13-417A-87BF-EBB1D8EC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D0F655-1C09-4F92-BD80-7549E1CC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7FDCB5-16B7-43C7-A60C-56CC5FFA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799220-5C9E-4E5E-A940-C40B82B5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CBC854-960D-4A7E-8D4C-2D05A5E9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C51792-4BEE-4AFB-9901-B712C453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974EE0-CCF0-445B-90E3-BB700096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E09243-CBEE-4064-810A-1F336657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6FD37E-0B2C-44A2-AE85-06F047F7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E90FFD-BC75-4BE6-B12E-A3A6839B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175119-C33F-4839-B033-1B355F5B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648B7E-F4DF-404F-982C-8B028029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3F4118-73A9-4173-933B-0B7AD8A3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F765FF-B9FD-4C8A-917F-A6FD7227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E52302-0FCD-4E41-A7EA-39B072EB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9AAB67-E44A-4D9F-92A3-220FCDC6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76CD04-4028-443A-BA6B-1459B17D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6F9B6A-938A-4441-A5F4-C34BBD55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BD028A-48C7-4A01-B39C-F4672D1F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85E04F-7BE8-4158-8553-E5370C9C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D5261F-BAC2-4C71-96DB-EA065EE8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E8AEB2-FA53-44B5-B0CB-031AD9C8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239C37-051E-442C-B23E-90E4E43E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94EBB7-CF36-41FA-89AF-5C84802F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E3208F-0645-48D5-AC1D-8F87D2E6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8C6356-684B-4543-8287-A3B6E1E3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828FAD-330E-4A8F-86A3-8BFC75C1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CAB716-A0E1-4273-BE74-A499B99D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F0B7D8-3A4C-4725-8DD6-B4189EDA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26F97B-A333-4115-9B77-B5BEA3D1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15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FA38-D919-4BBC-83D1-FFEA1EFC1067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7396-C85E-4EB6-86F9-6576DF8B90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3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4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5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BDC8-F68F-4937-ACA7-6BF78EE5A9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1160" y="3476520"/>
            <a:ext cx="9155160" cy="33814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e2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a2e2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a2e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7184-230B-4543-921C-7499C9DBC364}" type="slidenum">
              <a:rPr b="0" lang="en-US" sz="2400" spc="-1" strike="noStrike">
                <a:solidFill>
                  <a:srgbClr val="00a2e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8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B19C-4131-48CF-9665-747EFAB625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0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7F2A-1DD3-4072-ABC8-3EB9820C92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13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53C9-EF2E-4DA0-A7E0-959E86BBC8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7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FA94-1AF3-45C8-8757-CCD7607363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3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5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0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BFF7-C4F2-43CB-9764-14295554DB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48A7-2FC9-4C56-9BD2-9542FD2154C1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0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2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054E-B65D-46A0-B41D-967CE22A16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306360" y="2641320"/>
            <a:ext cx="663264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taff Governance Board Updat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May 2022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bsen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12720" y="461808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6% in March 2022 - same a previous month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Potential audit of mental health related absence to assess proportion of non-work related absence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st of living pressures may feed into absence rates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nsideration of risk related to cost of living for board risk register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146240" y="1558800"/>
            <a:ext cx="69595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ppraisal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Agenda for change appraisal rate 52% in March 2022 – a  number of appraisals completed at this time last year now du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Medical appraisal rate 84% in March 2022 (124/148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68.7% Job Plans complete for 2022/2023 (79/115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Workfor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International recruitment has commenced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Successful recruitment event in eye centre – learning from this will inform future events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Gareth Adkins</cp:lastModifiedBy>
  <dcterms:modified xsi:type="dcterms:W3CDTF">2022-05-23T08:24:41Z</dcterms:modified>
  <cp:revision>221</cp:revision>
  <dc:subject/>
  <dc:title>West of Scotland  Cardio-Thoracic Surgery Centre  Engagement Event</dc:title>
</cp:coreProperties>
</file>